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A2E0-6480-4664-992E-98E77CBD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AA4-6B3F-4B40-A7CC-BA9B1B31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829F-BCE8-4FF4-82E3-E62A203A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5DC0-14F2-4897-BE05-601FB359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74DB-4544-4E54-8CC2-54E73726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EC31-EC51-477F-ADEC-4C6F6FE4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9098-A8D4-4F26-A7B3-F1EA12BA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F127-5E82-4CF3-9BDB-FF3EE02A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4DA2-BF1B-4DAA-92C0-238C61D8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A572-0EE1-41F1-808D-0A8CA1CC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3121-22FD-4E79-9BF9-E3217CFB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D232-075A-4C59-8D51-0443F6AE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3087-5337-4E47-B346-B7B312AA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C8C9-8A31-4C11-9F0C-3B651F73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6B1D-0BC9-40FB-AF65-73D35A4A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11D7-E142-4B70-A560-23E35301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AC75-582F-42DF-8588-CFA9C094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364A-3D3C-412B-A5FD-E62A3493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D2CA-B35B-42E5-AACD-98A045F2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C609-8DEB-4BCF-A2FF-5192C67B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6997-4A31-44F4-90D5-C28478E5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5CF0-BA0B-45E7-97BF-4BCEDF6B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5E61-99D9-4AA9-A96E-F127B490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0FA-E729-40F6-9AC6-697046F6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48CB-42AD-435D-AF88-479E053BDFB6}" type="slidenum"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A399-3099-437D-98D4-7F19BC826731}" type="slidenum"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0:31Z</dcterms:modified>
  <cp:revision>1</cp:revision>
  <dc:subject/>
  <dc:title>幻灯片 1</dc:title>
</cp:coreProperties>
</file>